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3DE-325B-4A5A-812D-0C638DD4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376-5367-463A-A6F8-32E69D0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F94-80A4-453E-BF6E-1704F4A2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E12-4881-4FC7-B115-C7EACF34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F8E-D6F6-4E81-959B-93940A7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B71-3392-4479-89F9-43FE47C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3D4-F57F-4209-8EAE-5C53B1F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0BE-B7CD-4516-9AFD-0B987FC2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5D3-1F55-4A8E-A081-98783D4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C84-4513-4D0C-AB1F-D8C7EE7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AF8-38BC-49C5-8CDE-E92F7F6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409-ECE0-4E9E-A4C5-114C809B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F90A-17E8-4B9F-A989-14F2C358744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ávbeszélő fővonal 1000 lakos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54920" y="2344680"/>
            <a:ext cx="2089080" cy="2168280"/>
            <a:chOff x="7054920" y="2344680"/>
            <a:chExt cx="2089080" cy="2168280"/>
          </a:xfrm>
        </p:grpSpPr>
        <p:grpSp>
          <p:nvGrpSpPr>
            <p:cNvPr id="43" name=""/>
            <p:cNvGrpSpPr/>
            <p:nvPr/>
          </p:nvGrpSpPr>
          <p:grpSpPr>
            <a:xfrm>
              <a:off x="7054920" y="2344680"/>
              <a:ext cx="2089080" cy="368280"/>
              <a:chOff x="7054920" y="2344680"/>
              <a:chExt cx="2089080" cy="368280"/>
            </a:xfrm>
          </p:grpSpPr>
          <p:sp>
            <p:nvSpPr>
              <p:cNvPr id="44" name=""/>
              <p:cNvSpPr/>
              <p:nvPr/>
            </p:nvSpPr>
            <p:spPr>
              <a:xfrm>
                <a:off x="7054920" y="2417400"/>
                <a:ext cx="287280" cy="215640"/>
              </a:xfrm>
              <a:prstGeom prst="rect">
                <a:avLst/>
              </a:prstGeom>
              <a:solidFill>
                <a:srgbClr val="cff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415280" y="234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7054920" y="2704680"/>
              <a:ext cx="2089080" cy="368280"/>
              <a:chOff x="7054920" y="2704680"/>
              <a:chExt cx="2089080" cy="368280"/>
            </a:xfrm>
          </p:grpSpPr>
          <p:sp>
            <p:nvSpPr>
              <p:cNvPr id="47" name=""/>
              <p:cNvSpPr/>
              <p:nvPr/>
            </p:nvSpPr>
            <p:spPr>
              <a:xfrm>
                <a:off x="7054920" y="2777400"/>
                <a:ext cx="287280" cy="215640"/>
              </a:xfrm>
              <a:prstGeom prst="rect">
                <a:avLst/>
              </a:prstGeom>
              <a:solidFill>
                <a:srgbClr val="a9e4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415280" y="270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1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7054920" y="3063600"/>
              <a:ext cx="2089080" cy="368280"/>
              <a:chOff x="7054920" y="3063600"/>
              <a:chExt cx="2089080" cy="368280"/>
            </a:xfrm>
          </p:grpSpPr>
          <p:sp>
            <p:nvSpPr>
              <p:cNvPr id="50" name=""/>
              <p:cNvSpPr/>
              <p:nvPr/>
            </p:nvSpPr>
            <p:spPr>
              <a:xfrm>
                <a:off x="7054920" y="3136320"/>
                <a:ext cx="287280" cy="215640"/>
              </a:xfrm>
              <a:prstGeom prst="rect">
                <a:avLst/>
              </a:prstGeom>
              <a:solidFill>
                <a:srgbClr val="78c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415280" y="30636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054920" y="3417480"/>
              <a:ext cx="2089080" cy="368280"/>
              <a:chOff x="7054920" y="3417480"/>
              <a:chExt cx="2089080" cy="368280"/>
            </a:xfrm>
          </p:grpSpPr>
          <p:sp>
            <p:nvSpPr>
              <p:cNvPr id="53" name=""/>
              <p:cNvSpPr/>
              <p:nvPr/>
            </p:nvSpPr>
            <p:spPr>
              <a:xfrm>
                <a:off x="7054920" y="3490200"/>
                <a:ext cx="287280" cy="215640"/>
              </a:xfrm>
              <a:prstGeom prst="rect">
                <a:avLst/>
              </a:prstGeom>
              <a:solidFill>
                <a:srgbClr val="51a45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415280" y="34174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054920" y="3784320"/>
              <a:ext cx="2089080" cy="368280"/>
              <a:chOff x="7054920" y="3784320"/>
              <a:chExt cx="2089080" cy="368280"/>
            </a:xfrm>
          </p:grpSpPr>
          <p:sp>
            <p:nvSpPr>
              <p:cNvPr id="56" name=""/>
              <p:cNvSpPr/>
              <p:nvPr/>
            </p:nvSpPr>
            <p:spPr>
              <a:xfrm>
                <a:off x="7054920" y="3857040"/>
                <a:ext cx="287280" cy="215640"/>
              </a:xfrm>
              <a:prstGeom prst="rect">
                <a:avLst/>
              </a:prstGeom>
              <a:solidFill>
                <a:srgbClr val="2a842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15280" y="378432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2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054920" y="4144680"/>
              <a:ext cx="2089080" cy="368280"/>
              <a:chOff x="7054920" y="4144680"/>
              <a:chExt cx="2089080" cy="368280"/>
            </a:xfrm>
          </p:grpSpPr>
          <p:sp>
            <p:nvSpPr>
              <p:cNvPr id="59" name=""/>
              <p:cNvSpPr/>
              <p:nvPr/>
            </p:nvSpPr>
            <p:spPr>
              <a:xfrm>
                <a:off x="7054920" y="4217400"/>
                <a:ext cx="287280" cy="215640"/>
              </a:xfrm>
              <a:prstGeom prst="rect">
                <a:avLst/>
              </a:prstGeom>
              <a:solidFill>
                <a:srgbClr val="0464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415280" y="414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9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6772320" cy="42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rás: http://www.ksh.hu</a:t>
            </a: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55720" y="1089000"/>
            <a:ext cx="7431120" cy="467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52480" y="1092240"/>
            <a:ext cx="7439040" cy="4673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egyénként, régiónké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rás: http://www.ksh.hu</a:t>
            </a:r>
          </a:p>
        </p:txBody>
      </p:sp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7:50:29Z</dcterms:created>
  <dc:creator>OKÉV</dc:creator>
  <dc:description/>
  <dc:language>en-US</dc:language>
  <cp:lastModifiedBy>OKÉV</cp:lastModifiedBy>
  <dcterms:modified xsi:type="dcterms:W3CDTF">2005-12-26T03:58:08Z</dcterms:modified>
  <cp:revision>6</cp:revision>
  <dc:subject/>
  <dc:title>1. dia</dc:title>
</cp:coreProperties>
</file>